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C625-829B-4610-9508-285D9B0A0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6E09-AD29-4727-87FA-60315517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C876-5B99-48E6-826D-454D8EFB0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5672-E00F-4BD4-9658-0F3F483AA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0233-9605-4857-8591-C2544EDC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81EE-CF03-431B-B968-3D590170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0A98-9AD2-4B05-8BEB-3A614447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0D6C-BCF3-4322-9627-ACE32050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976E-D556-4689-B222-FD8A71C8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B9F3-1B26-4031-9FD2-FCC2AA3D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0B0B-EB1A-423A-8BC2-4319CBEB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7C6D-5D80-45ED-8AD6-AF01077A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00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17C3-010F-4038-A9F8-0BD101B519A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21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ffffff"/>
                </a:solidFill>
                <a:uFillTx/>
                <a:latin typeface="Calibri"/>
              </a:rPr>
              <a:t>ИСПОЛНИТЕЛИ</a:t>
            </a: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 АЛГОРИТМОВ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ЫПОЛНИ АЛГОРИТМ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СТАВЬ АЛГОРИТМ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95280" y="1600200"/>
            <a:ext cx="388944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1. прибавь 2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1. прибавь 2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1. прибавь 2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2. вычесть 1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2. вычесть 1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714560" y="1600200"/>
            <a:ext cx="40338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10 + 2 = 1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264960" indent="-26496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12 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+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2 = 14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264960" indent="-26496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14 + 2 = 16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264960" indent="-26496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16 - 1 = 15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264960" indent="-26496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15 - 1 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1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264960" indent="-26496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сходное число 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10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. Алгоритм: 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1112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2" name="Группа 10"/>
          <p:cNvGrpSpPr/>
          <p:nvPr/>
        </p:nvGrpSpPr>
        <p:grpSpPr>
          <a:xfrm>
            <a:off x="649080" y="1052640"/>
            <a:ext cx="7523280" cy="563400"/>
            <a:chOff x="649080" y="1052640"/>
            <a:chExt cx="7523280" cy="563400"/>
          </a:xfrm>
        </p:grpSpPr>
        <p:sp>
          <p:nvSpPr>
            <p:cNvPr id="73" name="Прямая соединительная линия 11"/>
            <p:cNvSpPr/>
            <p:nvPr/>
          </p:nvSpPr>
          <p:spPr>
            <a:xfrm>
              <a:off x="8172360" y="1052640"/>
              <a:ext cx="0" cy="249120"/>
            </a:xfrm>
            <a:prstGeom prst="line">
              <a:avLst/>
            </a:prstGeom>
            <a:ln w="5724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74" name="Group 8"/>
            <p:cNvGrpSpPr/>
            <p:nvPr/>
          </p:nvGrpSpPr>
          <p:grpSpPr>
            <a:xfrm>
              <a:off x="649080" y="1301400"/>
              <a:ext cx="7523280" cy="314640"/>
              <a:chOff x="649080" y="1301400"/>
              <a:chExt cx="7523280" cy="314640"/>
            </a:xfrm>
          </p:grpSpPr>
          <p:cxnSp>
            <p:nvCxnSpPr>
              <p:cNvPr id="75" name="AutoShape 9"/>
              <p:cNvCxnSpPr/>
              <p:nvPr/>
            </p:nvCxnSpPr>
            <p:spPr>
              <a:xfrm>
                <a:off x="649440" y="1301400"/>
                <a:ext cx="1440" cy="31500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76" name="AutoShape 10"/>
              <p:cNvCxnSpPr/>
              <p:nvPr/>
            </p:nvCxnSpPr>
            <p:spPr>
              <a:xfrm>
                <a:off x="649080" y="1301400"/>
                <a:ext cx="752364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prstDash val="dash"/>
                <a:miter/>
              </a:ln>
            </p:spPr>
          </p:cxnSp>
        </p:grpSp>
      </p:grpSp>
      <p:sp>
        <p:nvSpPr>
          <p:cNvPr id="77" name="Прямоугольник 9"/>
          <p:cNvSpPr/>
          <p:nvPr/>
        </p:nvSpPr>
        <p:spPr>
          <a:xfrm>
            <a:off x="2874240" y="5805360"/>
            <a:ext cx="255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Ответ: 14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ОБРАТНАЯ ЗАДАЧА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Пример 3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23640" y="134100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У исполнителя "Вычислитель" две команды, которым присвоены номера: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умножь на 3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прибавь 1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Составьте алгоритм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получения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з числа 2 числа 25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, содержащий не более 5 команд. В ответе запишите только 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Calibri"/>
              </a:rPr>
              <a:t>номера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Calibri"/>
              </a:rPr>
              <a:t>команд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РЕШЕНИЕ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39640" y="148392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Решение данной задачи лучше выполнять в </a:t>
            </a:r>
            <a:r>
              <a:rPr b="1" lang="ru-RU" sz="4100" spc="-1" strike="noStrike" u="sng">
                <a:solidFill>
                  <a:srgbClr val="ffff00"/>
                </a:solidFill>
                <a:uFillTx/>
                <a:latin typeface="Calibri"/>
              </a:rPr>
              <a:t>обратном</a:t>
            </a: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 порядке.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25 не делится на 3, значит  25-1=24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24 можно разделить на 3 = 8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8 на 3 не делится, значит 8-1=7 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7 на 3 не делится, значит 7-1=6 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6 можно разделить на 3 = 2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ПРОВЕРКА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!!!  ОБЯЗАТЕЛЬНО ПРОВЕСТИ ПРОВЕРКУ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ыполнить алгоритм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Calibri"/>
              </a:rPr>
              <a:t>заново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в прямом порядке, начиная с исходного числа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2.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Для того чтобы проверить, получается  нужный результат или нет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95280" y="1600200"/>
            <a:ext cx="388944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1. умножь на 3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2. прибавь 1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2. прибавь 1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1. умножь на 3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2. прибавь 1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714560" y="1600200"/>
            <a:ext cx="40338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* 3 = 6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264960" indent="-26496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6 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+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1 = 7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264960" indent="-26496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7 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+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1 = 8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264960" indent="-26496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8 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*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3 = 24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264960" indent="-26496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24 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+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1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2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ПРОВЕРКА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. Исходное число 2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9" name="Группа 10"/>
          <p:cNvGrpSpPr/>
          <p:nvPr/>
        </p:nvGrpSpPr>
        <p:grpSpPr>
          <a:xfrm>
            <a:off x="649080" y="1052640"/>
            <a:ext cx="7018560" cy="563400"/>
            <a:chOff x="649080" y="1052640"/>
            <a:chExt cx="7018560" cy="563400"/>
          </a:xfrm>
        </p:grpSpPr>
        <p:sp>
          <p:nvSpPr>
            <p:cNvPr id="90" name="Прямая соединительная линия 11"/>
            <p:cNvSpPr/>
            <p:nvPr/>
          </p:nvSpPr>
          <p:spPr>
            <a:xfrm>
              <a:off x="7667640" y="1052640"/>
              <a:ext cx="0" cy="249120"/>
            </a:xfrm>
            <a:prstGeom prst="line">
              <a:avLst/>
            </a:prstGeom>
            <a:ln w="5724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91" name="Group 8"/>
            <p:cNvGrpSpPr/>
            <p:nvPr/>
          </p:nvGrpSpPr>
          <p:grpSpPr>
            <a:xfrm>
              <a:off x="649080" y="1301400"/>
              <a:ext cx="7018560" cy="314640"/>
              <a:chOff x="649080" y="1301400"/>
              <a:chExt cx="7018560" cy="314640"/>
            </a:xfrm>
          </p:grpSpPr>
          <p:cxnSp>
            <p:nvCxnSpPr>
              <p:cNvPr id="92" name="AutoShape 9"/>
              <p:cNvCxnSpPr/>
              <p:nvPr/>
            </p:nvCxnSpPr>
            <p:spPr>
              <a:xfrm>
                <a:off x="649440" y="1301400"/>
                <a:ext cx="1440" cy="31500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93" name="AutoShape 10"/>
              <p:cNvCxnSpPr/>
              <p:nvPr/>
            </p:nvCxnSpPr>
            <p:spPr>
              <a:xfrm>
                <a:off x="649080" y="1301400"/>
                <a:ext cx="701892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prstDash val="dash"/>
                <a:miter/>
              </a:ln>
            </p:spPr>
          </p:cxnSp>
        </p:grpSp>
      </p:grpSp>
      <p:sp>
        <p:nvSpPr>
          <p:cNvPr id="94" name="Прямоугольник 9"/>
          <p:cNvSpPr/>
          <p:nvPr/>
        </p:nvSpPr>
        <p:spPr>
          <a:xfrm>
            <a:off x="789120" y="5843520"/>
            <a:ext cx="724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ВСЕ ВЕРНО.   Ответ: 12212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Пример 4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24000" y="1341000"/>
            <a:ext cx="8712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У исполнителя "Вычислитель" две команды, которым присвоены номера: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умножь на 4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ычти 3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Составьте алгоритм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получения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з числа 2 числа 14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, содержащий не более 5 команд. В ответе запишите только 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Calibri"/>
              </a:rPr>
              <a:t>номера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Calibri"/>
              </a:rPr>
              <a:t>команд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РЕШЕНИЕ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9640" y="148392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Решение данной задачи лучше выполнять в </a:t>
            </a:r>
            <a:r>
              <a:rPr b="1" lang="ru-RU" sz="4100" spc="-1" strike="noStrike" u="sng">
                <a:solidFill>
                  <a:srgbClr val="ffff00"/>
                </a:solidFill>
                <a:uFillTx/>
                <a:latin typeface="Calibri"/>
              </a:rPr>
              <a:t>обратном</a:t>
            </a: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 порядке.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14 не делится на 4, значит  14+3=17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17 не делится на 4, значит  17+3=20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20 делится на 4 , значит 20 / 4 = 5 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5 + 3 = 8 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8 можно разделить на 4 = 2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95280" y="1600200"/>
            <a:ext cx="388944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1. умножь на 4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2. вычти 3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1. умножь на 4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2. вычти 3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2. вычти 3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714560" y="1600200"/>
            <a:ext cx="40338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* 4 = 8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264960" indent="-26496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8 – 3  = 5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264960" indent="-26496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5 * 4 =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264960" indent="-26496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20 - 3 = 17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264960" indent="-26496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17 - 3 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1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ПРОВЕРКА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. Исходное число 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02" name="Группа 10"/>
          <p:cNvGrpSpPr/>
          <p:nvPr/>
        </p:nvGrpSpPr>
        <p:grpSpPr>
          <a:xfrm>
            <a:off x="649080" y="1052640"/>
            <a:ext cx="6947280" cy="563400"/>
            <a:chOff x="649080" y="1052640"/>
            <a:chExt cx="6947280" cy="563400"/>
          </a:xfrm>
        </p:grpSpPr>
        <p:sp>
          <p:nvSpPr>
            <p:cNvPr id="103" name="Прямая соединительная линия 11"/>
            <p:cNvSpPr/>
            <p:nvPr/>
          </p:nvSpPr>
          <p:spPr>
            <a:xfrm>
              <a:off x="7596360" y="1052640"/>
              <a:ext cx="0" cy="249120"/>
            </a:xfrm>
            <a:prstGeom prst="line">
              <a:avLst/>
            </a:prstGeom>
            <a:ln w="5724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04" name="Group 8"/>
            <p:cNvGrpSpPr/>
            <p:nvPr/>
          </p:nvGrpSpPr>
          <p:grpSpPr>
            <a:xfrm>
              <a:off x="649080" y="1301400"/>
              <a:ext cx="6947280" cy="314640"/>
              <a:chOff x="649080" y="1301400"/>
              <a:chExt cx="6947280" cy="314640"/>
            </a:xfrm>
          </p:grpSpPr>
          <p:cxnSp>
            <p:nvCxnSpPr>
              <p:cNvPr id="105" name="AutoShape 9"/>
              <p:cNvCxnSpPr/>
              <p:nvPr/>
            </p:nvCxnSpPr>
            <p:spPr>
              <a:xfrm>
                <a:off x="649440" y="1301400"/>
                <a:ext cx="1440" cy="31500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106" name="AutoShape 10"/>
              <p:cNvCxnSpPr/>
              <p:nvPr/>
            </p:nvCxnSpPr>
            <p:spPr>
              <a:xfrm>
                <a:off x="649080" y="1301400"/>
                <a:ext cx="694764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prstDash val="dash"/>
                <a:miter/>
              </a:ln>
            </p:spPr>
          </p:cxnSp>
        </p:grpSp>
      </p:grpSp>
      <p:sp>
        <p:nvSpPr>
          <p:cNvPr id="107" name="Прямоугольник 9"/>
          <p:cNvSpPr/>
          <p:nvPr/>
        </p:nvSpPr>
        <p:spPr>
          <a:xfrm>
            <a:off x="789120" y="5843520"/>
            <a:ext cx="724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ВСЕ ВЕРНО.   Ответ: 12122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ИСПОЛНИТЕЛЬ  АЛГОРИТМА </a:t>
            </a: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-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364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это человек, или техническое устройство, которые понимают команды алгоритма, и умеют правильно их выполнять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538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Исполнитель алгоритма выполняет команды формально, не рассуждая над их смыслом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ИСПОЛНИТЕЛИ  АЛГОРИТМА.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000" y="1599840"/>
            <a:ext cx="85676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Исполнители алгоритмов бывают разные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пароварка, микроволновка, пылесос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это исполнители алгоритмов;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Стиральная машина – исполнитель алгоритма;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Компьютер – исполнитель алгоритма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ИСПОЛНИТЕЛИ  АЛГОРИТМА.</a:t>
            </a: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000" y="1599840"/>
            <a:ext cx="85676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Каждый исполнитель имеет свой набор команд, который он умеет выполнять. Набор называется «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КИ»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КИ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– система команд исполнителя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Алгоритмы составляются с учетом возможностей каждого исполнителя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ИСПОЛНИТЕЛИ  АЛГОРИТМА.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000" y="1599840"/>
            <a:ext cx="85676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Сегодня мы познакомимся с исполнителем, который называется 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«Вычислитель»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Calibri"/>
              </a:rPr>
              <a:t>Вычислитель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– это исполнитель, который умеет выполнять  некоторые арифметические действия, указанные в его системе команд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ВЫЧИСЛИТЕЛЬ.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71380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 некоторых задачах исполнитель «Вычислитель» может называться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2852280"/>
            <a:ext cx="40399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Умножитель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Делитель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алькулятор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Арифмометр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5080" y="2852280"/>
            <a:ext cx="42480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онструктор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вадратор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Утроитель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Альфа, Гамм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1067040" y="5877000"/>
            <a:ext cx="651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мысл от этого не меняется.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Пример 1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3640" y="1341360"/>
            <a:ext cx="8785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У исполнителя "Вычислитель" две команды, которым присвоены номера: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прибавить 1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умножить на 2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Дана последовательность команд: 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21212.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Исходное число 3. Определите </a:t>
            </a: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результат выполнения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алгоритма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95280" y="1600200"/>
            <a:ext cx="388944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2. умножь на 2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1. прибавь 1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2. умножь на 2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1. прибавь 1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умножь на 2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714560" y="1600200"/>
            <a:ext cx="40338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3*2 = 6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264960" indent="-26496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6 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+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1 = 7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264960" indent="-26496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7 * 2 = 1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264960" indent="-26496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14 + 1 = 15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264960" indent="-26496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15 * 2 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264960" indent="-26496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сходное число 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3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. Алгоритм: 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2121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1" name="Группа 10"/>
          <p:cNvGrpSpPr/>
          <p:nvPr/>
        </p:nvGrpSpPr>
        <p:grpSpPr>
          <a:xfrm>
            <a:off x="649080" y="1052640"/>
            <a:ext cx="7523280" cy="563400"/>
            <a:chOff x="649080" y="1052640"/>
            <a:chExt cx="7523280" cy="563400"/>
          </a:xfrm>
        </p:grpSpPr>
        <p:sp>
          <p:nvSpPr>
            <p:cNvPr id="62" name="Прямая соединительная линия 11"/>
            <p:cNvSpPr/>
            <p:nvPr/>
          </p:nvSpPr>
          <p:spPr>
            <a:xfrm>
              <a:off x="8172360" y="1052640"/>
              <a:ext cx="0" cy="249120"/>
            </a:xfrm>
            <a:prstGeom prst="line">
              <a:avLst/>
            </a:prstGeom>
            <a:ln w="5724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63" name="Group 8"/>
            <p:cNvGrpSpPr/>
            <p:nvPr/>
          </p:nvGrpSpPr>
          <p:grpSpPr>
            <a:xfrm>
              <a:off x="649080" y="1301400"/>
              <a:ext cx="7523280" cy="314640"/>
              <a:chOff x="649080" y="1301400"/>
              <a:chExt cx="7523280" cy="314640"/>
            </a:xfrm>
          </p:grpSpPr>
          <p:cxnSp>
            <p:nvCxnSpPr>
              <p:cNvPr id="64" name="AutoShape 9"/>
              <p:cNvCxnSpPr/>
              <p:nvPr/>
            </p:nvCxnSpPr>
            <p:spPr>
              <a:xfrm>
                <a:off x="649440" y="1301400"/>
                <a:ext cx="1440" cy="31500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65" name="AutoShape 10"/>
              <p:cNvCxnSpPr/>
              <p:nvPr/>
            </p:nvCxnSpPr>
            <p:spPr>
              <a:xfrm>
                <a:off x="649080" y="1301400"/>
                <a:ext cx="752364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prstDash val="dash"/>
                <a:miter/>
              </a:ln>
            </p:spPr>
          </p:cxnSp>
        </p:grpSp>
      </p:grpSp>
      <p:sp>
        <p:nvSpPr>
          <p:cNvPr id="66" name="Прямоугольник 9"/>
          <p:cNvSpPr/>
          <p:nvPr/>
        </p:nvSpPr>
        <p:spPr>
          <a:xfrm>
            <a:off x="2874240" y="5805360"/>
            <a:ext cx="255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Ответ: 30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Пример 2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3640" y="1341000"/>
            <a:ext cx="8785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У исполнителя "Вычислитель" две команды, которым присвоены номера: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прибавить 2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ычесть 1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Дана последовательность команд: 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11122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Исходное число 10. Определите результат выполнения алгоритма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9-23T06:30:39Z</dcterms:created>
  <dc:creator>school3</dc:creator>
  <dc:description/>
  <dc:language>en-US</dc:language>
  <cp:lastModifiedBy>ученик5</cp:lastModifiedBy>
  <dcterms:modified xsi:type="dcterms:W3CDTF">2025-10-03T15:06:52Z</dcterms:modified>
  <cp:revision>23</cp:revision>
  <dc:subject/>
  <dc:title>Презентация PowerPoint</dc:title>
</cp:coreProperties>
</file>