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A5A-D561-48D9-B318-EB3F496E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F46-52DC-4340-BB8F-268C186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B16-21A9-48C4-A20B-E1D0526C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D62-24F6-48DF-B9BA-A64A2EFA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636-334B-476E-926A-6EDCD19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CDD-AB96-4437-B934-8C916C4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DEA-CBE3-4C6F-816E-269FFCE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DFB-EE4F-434F-B2DB-D47F86D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6B7-2F3D-4FE3-9626-A3CD65E0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E2D-03E2-4CFE-976C-DD70094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60D-59A7-4B77-BFC9-FA0B987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8D4-392C-43E8-AEA5-D1B6085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00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053-B626-4443-8089-6940ABA78C2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СПОЛНИТЕЛИ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ЛГОРИТМОВ-2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149720"/>
            <a:ext cx="83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ЙДИ ЗНАЧЕНИЕ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ЕРЕМЕННОЙ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ДАНИЕ 2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(1 тип)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У исполнителя Альфа две команды, которым присвоены номер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2. умножь на 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b - натуральное число; b ≥ 2). Известно, что программа 11221 переводит число 5 в число 176. Определите значение b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Команды, которые даны по условию задачи: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Алгоритм:  11221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переводит число 5 в 176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1600200"/>
            <a:ext cx="388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09640" y="1600200"/>
            <a:ext cx="448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5+1 = 6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+1=7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*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*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*b*b+1=17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*b*b=1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6-1=17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*b = 1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/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*b =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b = 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2. Алгоритм: 112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8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79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0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81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82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анды по условию задачи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лгоритм:  11221  переводит число 5 в 176.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ставляем полученное значение,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=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560" y="1600200"/>
            <a:ext cx="439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 = 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8800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5+1 = 3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6+1=7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35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35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175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75+1 = 176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ВСЕ ВЕРНО.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7" name="Группа 16"/>
          <p:cNvGrpSpPr/>
          <p:nvPr/>
        </p:nvGrpSpPr>
        <p:grpSpPr>
          <a:xfrm>
            <a:off x="504720" y="1052640"/>
            <a:ext cx="7523640" cy="563400"/>
            <a:chOff x="504720" y="1052640"/>
            <a:chExt cx="7523640" cy="563400"/>
          </a:xfrm>
        </p:grpSpPr>
        <p:sp>
          <p:nvSpPr>
            <p:cNvPr id="88" name="Прямая соединительная линия 17"/>
            <p:cNvSpPr/>
            <p:nvPr/>
          </p:nvSpPr>
          <p:spPr>
            <a:xfrm>
              <a:off x="802800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9" name="Group 8"/>
            <p:cNvGrpSpPr/>
            <p:nvPr/>
          </p:nvGrpSpPr>
          <p:grpSpPr>
            <a:xfrm>
              <a:off x="504720" y="1301400"/>
              <a:ext cx="7523640" cy="314640"/>
              <a:chOff x="504720" y="1301400"/>
              <a:chExt cx="7523640" cy="314640"/>
            </a:xfrm>
          </p:grpSpPr>
          <p:cxnSp>
            <p:nvCxnSpPr>
              <p:cNvPr id="90" name="AutoShape 9"/>
              <p:cNvCxnSpPr/>
              <p:nvPr/>
            </p:nvCxnSpPr>
            <p:spPr>
              <a:xfrm>
                <a:off x="50472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91" name="AutoShape 10"/>
              <p:cNvCxnSpPr/>
              <p:nvPr/>
            </p:nvCxnSpPr>
            <p:spPr>
              <a:xfrm>
                <a:off x="504720" y="1301400"/>
                <a:ext cx="752400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2. Алгоритм: 112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ДАНИЕ 3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(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ТИП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У исполнителя Альфа две команды, которым присвоены номер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b - натуральное число; b ≥ 2). Известно, что программа 212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переводит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в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31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Определите значение b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Команды, которые даны по условию задачи: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1. прибавь b 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. умножь на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 3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Алгоритм:  2121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переводит число 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231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5280" y="1600200"/>
            <a:ext cx="388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76560" y="1600200"/>
            <a:ext cx="505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*3 = 1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+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+b)*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+b)*3+b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+b)*3+b)*3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+b)*3+b)*3=23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ешаем полученное уравне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Алгоритм: 212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0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101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2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103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104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+b)*3+b)*3=23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5+3*b + b)*3 = 23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5+4*b)*3 = 23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35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+12*b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= 231 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b = 231 – 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b = 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6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 = 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6 / 1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=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8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РЕШАЕМ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ПОЛУЧЕННОЕ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УРАВНЕ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b050"/>
                </a:solidFill>
                <a:uFillTx/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анды по условию задачи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b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умножь на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лгоритм:  21212  переводит число 5 в 231.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ставляем полученное значение,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=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8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ИСПОЛНИТЕЛЬ  ВЫЧИСЛИТ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52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дания «вычислитель»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на нахождение значения </a:t>
            </a: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елятся на несколько типов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1 тип 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простые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задания, которые решаются обычными вычислениям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2 тип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– задания, которые решаются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составлением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уравнений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ба типа заданий имеют один и тот же порядок решени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1600200"/>
            <a:ext cx="439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3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 = 8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8800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3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5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5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+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8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3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3*3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69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69+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8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7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7*3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3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ВСЕ ВЕРНО.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1" name="Группа 16"/>
          <p:cNvGrpSpPr/>
          <p:nvPr/>
        </p:nvGrpSpPr>
        <p:grpSpPr>
          <a:xfrm>
            <a:off x="504720" y="1052640"/>
            <a:ext cx="7523640" cy="563400"/>
            <a:chOff x="504720" y="1052640"/>
            <a:chExt cx="7523640" cy="563400"/>
          </a:xfrm>
        </p:grpSpPr>
        <p:sp>
          <p:nvSpPr>
            <p:cNvPr id="112" name="Прямая соединительная линия 17"/>
            <p:cNvSpPr/>
            <p:nvPr/>
          </p:nvSpPr>
          <p:spPr>
            <a:xfrm>
              <a:off x="802800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13" name="Group 8"/>
            <p:cNvGrpSpPr/>
            <p:nvPr/>
          </p:nvGrpSpPr>
          <p:grpSpPr>
            <a:xfrm>
              <a:off x="504720" y="1301400"/>
              <a:ext cx="7523640" cy="314640"/>
              <a:chOff x="504720" y="1301400"/>
              <a:chExt cx="7523640" cy="314640"/>
            </a:xfrm>
          </p:grpSpPr>
          <p:cxnSp>
            <p:nvCxnSpPr>
              <p:cNvPr id="114" name="AutoShape 9"/>
              <p:cNvCxnSpPr/>
              <p:nvPr/>
            </p:nvCxnSpPr>
            <p:spPr>
              <a:xfrm>
                <a:off x="50472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115" name="AutoShape 10"/>
              <p:cNvCxnSpPr/>
              <p:nvPr/>
            </p:nvCxnSpPr>
            <p:spPr>
              <a:xfrm>
                <a:off x="504720" y="1301400"/>
                <a:ext cx="752400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5. Алгоритм: 212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ДАНИЕ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(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ТИП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2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У исполнителя Альфа две команды, которым присвоены номер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b - натуральное число; b ≥ 2). Известно, что программа 12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1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переводит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в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36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Определите значение b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Команды, которые даны по условию задачи: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1. прибавь b 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. умножь на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 2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Алгоритм:  121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21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переводит число 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1" lang="en-US" sz="4100" spc="-1" strike="noStrike">
                <a:solidFill>
                  <a:srgbClr val="ffffff"/>
                </a:solidFill>
                <a:latin typeface="Calibri"/>
              </a:rPr>
              <a:t>136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5280" y="1600200"/>
            <a:ext cx="388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51280" y="1600200"/>
            <a:ext cx="518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3+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+b)*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+b)*2+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+b)*2+b)*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+b)*2+b)*2+b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3+b)*2+b)*2+b=136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Решаем полученное уравне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177840" indent="-1778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Алгоритм: 121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4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125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26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127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128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((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3+b)*2+b)*2+b=136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(26+2*b + b)*2+b=136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(26+3*b)*2+b = 136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+6*b + b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= 136 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+7*b = 136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7*b = 136 – 52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,      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7*b  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= 84</a:t>
            </a:r>
            <a:br>
              <a:rPr sz="4300"/>
            </a:b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 = 84 / 7 </a:t>
            </a:r>
            <a:r>
              <a:rPr b="1" lang="en-US" sz="4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=12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РЕШАЕМ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ПОЛУЧЕННОЕ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УРАВНЕН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анды по условию задачи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b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лгоритм:  1212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 переводит число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в 1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.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ставляем полученное значение,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=12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0560" y="1600200"/>
            <a:ext cx="439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b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 = 12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8800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3+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12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5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25*2 = 50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50+</a:t>
            </a: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12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62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62*2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24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24+12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36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ВСЕ ВЕРНО.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5" name="Группа 16"/>
          <p:cNvGrpSpPr/>
          <p:nvPr/>
        </p:nvGrpSpPr>
        <p:grpSpPr>
          <a:xfrm>
            <a:off x="504720" y="1052640"/>
            <a:ext cx="7523640" cy="563400"/>
            <a:chOff x="504720" y="1052640"/>
            <a:chExt cx="7523640" cy="563400"/>
          </a:xfrm>
        </p:grpSpPr>
        <p:sp>
          <p:nvSpPr>
            <p:cNvPr id="136" name="Прямая соединительная линия 17"/>
            <p:cNvSpPr/>
            <p:nvPr/>
          </p:nvSpPr>
          <p:spPr>
            <a:xfrm>
              <a:off x="802800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504720" y="1301400"/>
              <a:ext cx="7523640" cy="314640"/>
              <a:chOff x="504720" y="1301400"/>
              <a:chExt cx="7523640" cy="314640"/>
            </a:xfrm>
          </p:grpSpPr>
          <p:cxnSp>
            <p:nvCxnSpPr>
              <p:cNvPr id="138" name="AutoShape 9"/>
              <p:cNvCxnSpPr/>
              <p:nvPr/>
            </p:nvCxnSpPr>
            <p:spPr>
              <a:xfrm>
                <a:off x="50472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139" name="AutoShape 10"/>
              <p:cNvCxnSpPr/>
              <p:nvPr/>
            </p:nvCxnSpPr>
            <p:spPr>
              <a:xfrm>
                <a:off x="504720" y="1301400"/>
                <a:ext cx="752400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3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 Алгоритм: 1212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ПОРЯДОК РЕШ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7640" y="1413000"/>
            <a:ext cx="90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44928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зять исходное число из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условия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задач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41440" indent="-44928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Записать все команды алгоритма, выполняя их друг за другом, где надо 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одставляя значение 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“b”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41440" indent="-44928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риравнять полученное выражение к конечному числу из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условия</a:t>
            </a: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задачи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41440" indent="-449280">
              <a:spcBef>
                <a:spcPts val="9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Calibri"/>
              </a:rPr>
              <a:t>Сократить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полученное выражение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541440" indent="-449280">
              <a:spcBef>
                <a:spcPts val="9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йти значение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!!!  </a:t>
            </a:r>
            <a:r>
              <a:rPr b="1" lang="ru-RU" sz="4400" spc="-1" strike="noStrike" u="sng">
                <a:solidFill>
                  <a:srgbClr val="ffff00"/>
                </a:solidFill>
                <a:uFillTx/>
                <a:latin typeface="Calibri"/>
              </a:rPr>
              <a:t>ОБЯЗАТЕЛЬНО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ПРОВЕСТИ ПРОВЕРКУ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полнить алгоритм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заново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в прямом порядке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, (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подставляя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полученное</a:t>
            </a: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4000" spc="-1" strike="noStrike" u="sng">
                <a:solidFill>
                  <a:srgbClr val="ffff00"/>
                </a:solidFill>
                <a:uFillTx/>
                <a:latin typeface="Calibri"/>
              </a:rPr>
              <a:t>значение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), для того чтобы проверить, получается  нужный результат или не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ЗАДАНИЕ 1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(1 тип)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У исполнителя Альфа две команды, которым присвоены номера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 2. умножь на 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(b - натуральное число; b ≥ 2). Известно, что программа 11221 переводит число 2 в число 197. Определите значение b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МЕР РЕШЕНИЯ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Команды, которые даны по условию задачи: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Алгоритм:  11221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переводит число 2 в 197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1600200"/>
            <a:ext cx="388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09640" y="1600200"/>
            <a:ext cx="448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2+1 = 3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3+1=4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*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*b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4*b*b+1=197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4*b*b=19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7-1=196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*b = 196 / 4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b*b = 49 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b = 7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2. Алгоритм: 112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6" name="Группа 10"/>
          <p:cNvGrpSpPr/>
          <p:nvPr/>
        </p:nvGrpSpPr>
        <p:grpSpPr>
          <a:xfrm>
            <a:off x="649080" y="1052640"/>
            <a:ext cx="7523280" cy="563400"/>
            <a:chOff x="649080" y="1052640"/>
            <a:chExt cx="7523280" cy="563400"/>
          </a:xfrm>
        </p:grpSpPr>
        <p:sp>
          <p:nvSpPr>
            <p:cNvPr id="57" name="Прямая соединительная линия 11"/>
            <p:cNvSpPr/>
            <p:nvPr/>
          </p:nvSpPr>
          <p:spPr>
            <a:xfrm>
              <a:off x="817236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8" name="Group 8"/>
            <p:cNvGrpSpPr/>
            <p:nvPr/>
          </p:nvGrpSpPr>
          <p:grpSpPr>
            <a:xfrm>
              <a:off x="649080" y="1301400"/>
              <a:ext cx="7523280" cy="314640"/>
              <a:chOff x="649080" y="1301400"/>
              <a:chExt cx="7523280" cy="314640"/>
            </a:xfrm>
          </p:grpSpPr>
          <p:cxnSp>
            <p:nvCxnSpPr>
              <p:cNvPr id="59" name="AutoShape 9"/>
              <p:cNvCxnSpPr/>
              <p:nvPr/>
            </p:nvCxnSpPr>
            <p:spPr>
              <a:xfrm>
                <a:off x="64944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60" name="AutoShape 10"/>
              <p:cNvCxnSpPr/>
              <p:nvPr/>
            </p:nvCxnSpPr>
            <p:spPr>
              <a:xfrm>
                <a:off x="649080" y="1301400"/>
                <a:ext cx="752364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манды по условию задачи: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. умножь на b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Алгоритм:  11221  переводит число 2 в 197. 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Подставляем полученное значение,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b=7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560" y="1600200"/>
            <a:ext cx="4392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1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b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. умножь на 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1. прибавь 1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Calibri"/>
              </a:rPr>
              <a:t>b = 7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78800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+1 = 3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3+1=4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28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28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*</a:t>
            </a:r>
            <a:r>
              <a:rPr b="1" lang="ru-RU" sz="4300" spc="-1" strike="noStrike">
                <a:solidFill>
                  <a:srgbClr val="ffff00"/>
                </a:solidFill>
                <a:latin typeface="Calibri"/>
              </a:rPr>
              <a:t>7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 = 196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19</a:t>
            </a: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6+1 = 197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ВСЕ ВЕРНО.</a:t>
            </a:r>
            <a:r>
              <a:rPr b="1" lang="en-US" sz="43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5" name="Группа 16"/>
          <p:cNvGrpSpPr/>
          <p:nvPr/>
        </p:nvGrpSpPr>
        <p:grpSpPr>
          <a:xfrm>
            <a:off x="504720" y="1052640"/>
            <a:ext cx="7523640" cy="563400"/>
            <a:chOff x="504720" y="1052640"/>
            <a:chExt cx="7523640" cy="563400"/>
          </a:xfrm>
        </p:grpSpPr>
        <p:sp>
          <p:nvSpPr>
            <p:cNvPr id="66" name="Прямая соединительная линия 17"/>
            <p:cNvSpPr/>
            <p:nvPr/>
          </p:nvSpPr>
          <p:spPr>
            <a:xfrm>
              <a:off x="8028000" y="1052640"/>
              <a:ext cx="0" cy="249120"/>
            </a:xfrm>
            <a:prstGeom prst="line">
              <a:avLst/>
            </a:prstGeom>
            <a:ln w="57240">
              <a:solidFill>
                <a:srgbClr val="ffff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504720" y="1301400"/>
              <a:ext cx="7523640" cy="314640"/>
              <a:chOff x="504720" y="1301400"/>
              <a:chExt cx="7523640" cy="314640"/>
            </a:xfrm>
          </p:grpSpPr>
          <p:cxnSp>
            <p:nvCxnSpPr>
              <p:cNvPr id="68" name="AutoShape 9"/>
              <p:cNvCxnSpPr/>
              <p:nvPr/>
            </p:nvCxnSpPr>
            <p:spPr>
              <a:xfrm>
                <a:off x="504720" y="1301400"/>
                <a:ext cx="1440" cy="31500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69" name="AutoShape 10"/>
              <p:cNvCxnSpPr/>
              <p:nvPr/>
            </p:nvCxnSpPr>
            <p:spPr>
              <a:xfrm>
                <a:off x="504720" y="1301400"/>
                <a:ext cx="752400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prstDash val="dash"/>
                <a:miter/>
              </a:ln>
            </p:spPr>
          </p:cxn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сходное число 2. Алгоритм: 1122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30T07:32:56Z</dcterms:created>
  <dc:creator>school3</dc:creator>
  <dc:description/>
  <dc:language>en-US</dc:language>
  <cp:lastModifiedBy>ученик5</cp:lastModifiedBy>
  <dcterms:modified xsi:type="dcterms:W3CDTF">2025-10-15T14:48:40Z</dcterms:modified>
  <cp:revision>34</cp:revision>
  <dc:subject/>
  <dc:title>ИСПОЛНИТЕЛИ  АЛГОРИТМОВ-3</dc:title>
</cp:coreProperties>
</file>