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E95-D06F-45E2-9B38-B2845DA4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28E-6433-4498-B8B5-3ECF8CF6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C9C-A409-44FD-AEBB-D4E3064F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DE9-8155-40B7-AA69-BE9AD302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6AA-1B08-439B-9E12-A3AE0DB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950-12AF-44A4-B5D6-F624440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839-1288-4ED7-99BC-4800DAE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C5B-2835-4171-9F96-8D034DE1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03A-2282-442C-A0CA-3413664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536-89FE-4ABB-9405-367267B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8BA-00E5-44CD-98E1-2EB0600E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D943-2BC5-4184-BD05-63DFDDF9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00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212-B2C5-43A9-ADC5-552F8A8B91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СПОЛНИТЕЛИ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ЛГОРИТМОВ-3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ЙДИ ЗНАЧЕНИЕ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ЕРЕМЕННО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b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2. прибавь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12221  переводит число 1 в 91.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ставляем полученное значение, х1 =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=7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08000" y="608472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Значение х2 = -13  не рассматриваем, т.к.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&lt;0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умножь на b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умножь на 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 = 7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292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= 7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7 + 2 = 9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9 + 2 = 1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 + 2 = 1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3 * 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= 9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ВСЕ ВЕРНО.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1. Алгоритм: 12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72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73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74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75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СПОЛНИТЕЛЬ  ВЫЧИСЛИТ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52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ния «вычислитель» на нахождение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значения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ывают еще одного типа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адания, которые решаются </a:t>
            </a:r>
            <a:r>
              <a:rPr b="1" lang="ru-RU" sz="4800" spc="-1" strike="noStrike" u="sng">
                <a:solidFill>
                  <a:srgbClr val="ffff00"/>
                </a:solidFill>
                <a:uFillTx/>
                <a:latin typeface="Calibri"/>
              </a:rPr>
              <a:t>составлением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800"/>
            </a:b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квадратного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уравнения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8920" y="145224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Задание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сначала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решается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как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обычно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зять исходное число из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условия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задач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писать все команды алгоритма, выполняя их друг за другом, где надо подставляя значение 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“b”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равнять полученное выражение к конечному числу из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условия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задач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ПОРЯДОК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РЕШ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ПОРЯДОК</a:t>
            </a: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5400" spc="-1" strike="noStrike" u="sng">
                <a:solidFill>
                  <a:srgbClr val="ffff00"/>
                </a:solidFill>
                <a:uFillTx/>
                <a:latin typeface="Calibri"/>
              </a:rPr>
              <a:t>РЕШ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7640" y="1413000"/>
            <a:ext cx="90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Calibri"/>
              </a:rPr>
              <a:t>Получается выражение, которое содержит значения </a:t>
            </a:r>
            <a:r>
              <a:rPr b="1" lang="en-US" sz="3600" spc="-1" strike="noStrike">
                <a:solidFill>
                  <a:srgbClr val="99ff99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99ff99"/>
                </a:solidFill>
                <a:latin typeface="Calibri"/>
              </a:rPr>
              <a:t>, и </a:t>
            </a:r>
            <a:r>
              <a:rPr b="1" lang="ru-RU" sz="3600" spc="-1" strike="noStrike" u="sng">
                <a:solidFill>
                  <a:srgbClr val="99ff99"/>
                </a:solidFill>
                <a:uFillTx/>
                <a:latin typeface="Calibri"/>
              </a:rPr>
              <a:t>значения</a:t>
            </a:r>
            <a:r>
              <a:rPr b="1" lang="ru-RU" sz="3600" spc="-1" strike="noStrike">
                <a:solidFill>
                  <a:srgbClr val="99ff99"/>
                </a:solidFill>
                <a:latin typeface="Calibri"/>
              </a:rPr>
              <a:t> </a:t>
            </a:r>
            <a:r>
              <a:rPr b="1" lang="en-US" sz="3600" spc="-1" strike="noStrike" u="sng">
                <a:solidFill>
                  <a:srgbClr val="99ff99"/>
                </a:solidFill>
                <a:uFillTx/>
                <a:latin typeface="Calibri"/>
              </a:rPr>
              <a:t>b</a:t>
            </a:r>
            <a:r>
              <a:rPr b="1" lang="en-US" sz="3600" spc="-1" strike="noStrike">
                <a:solidFill>
                  <a:srgbClr val="99ff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Calibri"/>
              </a:rPr>
              <a:t>в </a:t>
            </a:r>
            <a:r>
              <a:rPr b="1" lang="ru-RU" sz="3600" spc="-1" strike="noStrike" u="sng">
                <a:solidFill>
                  <a:srgbClr val="99ff99"/>
                </a:solidFill>
                <a:uFillTx/>
                <a:latin typeface="Calibri"/>
              </a:rPr>
              <a:t>степени</a:t>
            </a:r>
            <a:r>
              <a:rPr b="1" lang="ru-RU" sz="3600" spc="-1" strike="noStrike">
                <a:solidFill>
                  <a:srgbClr val="99ff99"/>
                </a:solidFill>
                <a:latin typeface="Calibri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2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до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2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се числовые значения надо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перенест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левую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часть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, и приравнять все к 0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2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алее, находить значения как в квадратном уравнени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921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йти дискриминант, значение х1 и х2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!!!  После нахождения корней, ОБЯЗАТЕЛЬНО ПРОВЕСТИ ПРОВЕРК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f0"/>
                </a:solidFill>
                <a:latin typeface="Calibri"/>
              </a:rPr>
              <a:t>Отрицательные корни не рассматриваются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, т.к.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Calibri"/>
              </a:rPr>
              <a:t>часто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, по условию задачи </a:t>
            </a:r>
            <a:r>
              <a:rPr b="1" lang="en-US" sz="34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должно быть натуральным числом.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Выполнить алгоритм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Calibri"/>
              </a:rPr>
              <a:t>заново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 в прямом порядке, (подставляя полученное значение</a:t>
            </a: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 b</a:t>
            </a: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), для того чтобы проверить, получается  нужный результат или нет.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ДАНИЕ 1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 исполнителя Альфа две команды, которым присвоены номер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множь на b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2. прибавь 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b - натуральное число; b ≥ 2). Известно, что программа 12221 переводит число 1 в число 91. Определите значение b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РЕШ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, которые дан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умножь на b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2. прибавь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1222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ереводит число 1 в 9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. умножь на b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2. прибавь 2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. умножь на b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51280" y="1600200"/>
            <a:ext cx="518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b + 2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b + 2 + 2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b + 2 + 2 + 2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3700" spc="-1" strike="noStrike">
                <a:solidFill>
                  <a:srgbClr val="ffffff"/>
                </a:solidFill>
                <a:latin typeface="Calibri"/>
              </a:rPr>
              <a:t>1*</a:t>
            </a: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b + 2 + 2 + 2)*b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Calibri"/>
              </a:rPr>
              <a:t>(b + 6)*b = 91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ешаем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полученное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уравн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1. Алгоритм: 12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59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61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62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219240" y="1560600"/>
            <a:ext cx="8675640" cy="5035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РЕШАЕМ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ПОЛУЧЕННОЕ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УРАВН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30T07:32:56Z</dcterms:created>
  <dc:creator>school3</dc:creator>
  <dc:description/>
  <dc:language>en-US</dc:language>
  <cp:lastModifiedBy>ученик5</cp:lastModifiedBy>
  <dcterms:modified xsi:type="dcterms:W3CDTF">2025-10-16T14:53:33Z</dcterms:modified>
  <cp:revision>49</cp:revision>
  <dc:subject/>
  <dc:title>ИСПОЛНИТЕЛИ  АЛГОРИТМОВ-3</dc:title>
</cp:coreProperties>
</file>