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C0C-E392-4508-8A7F-2F49FACB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83D-D05B-42D4-850C-CCD17CC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4D8-3527-4305-B181-99C9C899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9F5-D853-48E9-8170-B9833AB3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A47A-5DDE-4882-B0CC-3141CA9C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DA9-C853-4EA3-AFD1-1DD7D979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94E6-7E85-47C0-A3C0-8ADF51A7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3F7E-3D70-463E-893E-71E086B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7301-A6DE-40EE-8B75-65DA4C6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021-D235-4646-9718-31BB8AD5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25D-A49A-4258-8334-69BB83C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3B5-8DE5-42B1-A1A9-88BB3BB9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1338-9660-4BB4-9DF5-651A759C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9B37-4E89-46BA-9325-50639D9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6D4D-0476-40CD-8A8C-FC63C462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55EF-89C1-43EC-B07F-7EAF855B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2C9F-8E0F-4DDC-91AC-5D2872F1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1C58-2667-4B37-A3E8-D20CF11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0B81-5D1F-4D05-91C9-18960E31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DF8A-7400-4C9E-81FE-7869ADB3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805E-3E05-4EA4-B5F1-D7118B0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A3AD-43F7-4D4B-8189-3A791A7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C73-CBE3-4673-963F-AA4F7CA0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4D15-9FEC-467E-9C79-C90A3C6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99BD-942E-412E-B370-0DFDB32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D10E-D016-494B-9C27-CA577A3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71EC-A042-4ED6-8D68-51611F4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B95F-59B7-4B8A-A045-5A0960EC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625D-FD97-45E6-A523-0929371C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B57D-1EBD-4445-9658-1CB015D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CEC5-B548-4E6A-B4F8-91D2F5F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01CF-0683-4B26-BE1C-E7E1CA5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73A4-8AD3-4ECD-8BDC-31FBB263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991-7421-4AAB-A002-6BCCDA3F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81AD-31E8-44CB-A6CA-771E308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9F0F-7271-471F-96C1-2215D20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B9FE-D3E2-4B69-B005-403CA0E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D3F1-01AF-47B9-8A93-1B0DDB5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B50C-8CCD-4AEA-80A7-6C8770C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C0E7-4D36-48F9-858A-B01AD8A7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10E5-5CBB-4590-9B2F-6B96BE2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6B74-A964-474A-A64B-AF1A0AE7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DA6B-CFD4-406A-8FB6-1DE08889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8F2C-55D0-4220-AFB5-6AC9E99B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F00-B706-456C-8275-DE167CB9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8B56-0E7A-4049-B299-86C895C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121F-B937-4E92-BD54-49B1D98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B87D-D440-4DA6-B966-C28DD25C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BF6E-4750-4DFD-8262-2A4EA0D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8ED4-7EBA-4A87-9E3D-F997DD1F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0603-B2D2-4E40-83A7-0C3A453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2D47-22C8-4F22-B074-587FB23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9D37A-361D-40F8-B277-2BF6E93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A8C5-66D0-4203-B2E5-9A7FC5E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69BA-8456-4669-9998-7D277C5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9D9-E6FC-430F-B006-2749BBC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24D6E-4B3E-487B-8C18-709337B5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C1E-5AD3-485F-9288-4841BB4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B7F-A1DC-416A-9546-4B4CB0D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0E8-92F8-49E4-89E0-CBDB634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B6D42-0380-4AEF-937E-FC2D211E7620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5e0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B6817-1913-47E2-A567-688EDC3F1070}" type="slidenum">
              <a:rPr b="0" lang="ru-RU" sz="1000" spc="-1" strike="noStrike">
                <a:solidFill>
                  <a:srgbClr val="895e04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3f3f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2C1D9-EE1C-4CFF-B53E-490C2BC4F4AF}" type="slidenum">
              <a:rPr b="0" lang="ru-RU" sz="1000" spc="-1" strike="noStrike">
                <a:solidFill>
                  <a:srgbClr val="f3f3f2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E4326-6646-415E-A74F-664DFD08C157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C9898-AE7D-4C31-921B-D3731B0B76C6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5100" spc="-1" strike="noStrike">
                <a:solidFill>
                  <a:srgbClr val="2a1a00"/>
                </a:solidFill>
                <a:latin typeface="Copperplate Gothic Bold"/>
              </a:rPr>
              <a:t>ТЕМА  УРОКА: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600" spc="-1" strike="noStrike">
                <a:solidFill>
                  <a:srgbClr val="191a16"/>
                </a:solidFill>
                <a:latin typeface="Monotype Corsiva"/>
              </a:rPr>
              <a:t>Программирование диалога с компьютером</a:t>
            </a:r>
            <a:endParaRPr b="0" lang="en-US" sz="6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режде чем начать составление программы с диалогом, нужно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продумать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сценарий такого диалога.</a:t>
            </a:r>
            <a:endParaRPr b="0" lang="en-US" sz="54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55640" y="836640"/>
            <a:ext cx="7704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Что такое сценарий работы программы?</a:t>
            </a:r>
            <a:endParaRPr b="0" lang="en-US" sz="8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11280" y="115560"/>
            <a:ext cx="842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0360" indent="-18036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Сценарий работы программы — это </a:t>
            </a:r>
            <a:r>
              <a:rPr b="1" lang="ru-RU" sz="5200" spc="-1" strike="noStrike" u="sng">
                <a:solidFill>
                  <a:srgbClr val="ff0000"/>
                </a:solidFill>
                <a:uFillTx/>
                <a:latin typeface="Monotype Corsiva"/>
              </a:rPr>
              <a:t>описание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 u="sng">
                <a:solidFill>
                  <a:srgbClr val="ff0000"/>
                </a:solidFill>
                <a:uFillTx/>
                <a:latin typeface="Monotype Corsiva"/>
              </a:rPr>
              <a:t>ее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 u="sng">
                <a:solidFill>
                  <a:srgbClr val="ff0000"/>
                </a:solidFill>
                <a:uFillTx/>
                <a:latin typeface="Monotype Corsiva"/>
              </a:rPr>
              <a:t>общения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с </a:t>
            </a:r>
            <a:r>
              <a:rPr b="1" lang="ru-RU" sz="5200" spc="-1" strike="noStrike" u="sng">
                <a:solidFill>
                  <a:srgbClr val="ff0000"/>
                </a:solidFill>
                <a:uFillTx/>
                <a:latin typeface="Monotype Corsiva"/>
              </a:rPr>
              <a:t>пользователем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(пользовательского интерфейса). </a:t>
            </a: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  <a:p>
            <a:pPr marL="180360" indent="-18036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400"/>
            </a:b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Интерфейс желательно должен быть дружественным.</a:t>
            </a:r>
            <a:endParaRPr b="0" lang="en-US" sz="5200" spc="-1" strike="noStrike">
              <a:solidFill>
                <a:srgbClr val="595959"/>
              </a:solidFill>
              <a:latin typeface="Gill Sans MT"/>
            </a:endParaRPr>
          </a:p>
          <a:p>
            <a:pPr marL="180360" indent="-18036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strips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22360" y="62064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850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Сценарий</a:t>
            </a: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 работы программы вычисляющей сумму двух целых чисел</a:t>
            </a:r>
            <a:br>
              <a:rPr sz="7200"/>
            </a:br>
            <a:endParaRPr b="0" lang="en-US" sz="7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937800" y="549360"/>
            <a:ext cx="7634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orbel"/>
              </a:rPr>
              <a:t>Введите первое слагаемое: </a:t>
            </a: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А= </a:t>
            </a: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237</a:t>
            </a: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orbel"/>
              </a:rPr>
              <a:t>Введите второе слагаемое: </a:t>
            </a: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В = </a:t>
            </a: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658</a:t>
            </a: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rbel"/>
              </a:rPr>
              <a:t>А + В = </a:t>
            </a: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895</a:t>
            </a: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Corbel"/>
              </a:rPr>
              <a:t>Пока!</a:t>
            </a: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259920"/>
            <a:ext cx="8197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900" spc="-1" strike="noStrike">
                <a:solidFill>
                  <a:srgbClr val="2a1a00"/>
                </a:solidFill>
                <a:latin typeface="Impact"/>
              </a:rPr>
              <a:t>ПРОГРАММА, РЕАЛИЗУЮЩАЯ ЭТОТ СЦЕНАРИЙ:</a:t>
            </a:r>
            <a:br>
              <a:rPr sz="4600"/>
            </a:br>
            <a:endParaRPr b="0" lang="en-US" sz="29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55280" y="836640"/>
            <a:ext cx="8388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umma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a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, B: integer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gi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rit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‘Введите первое слагаемое А=’)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l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‘введите второе слагаемое: В=’)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ln(B)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ln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ln (‘A+B=’, A+B);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ln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‘Пока!’)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nd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pull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600" spc="-1" strike="noStrike">
                <a:solidFill>
                  <a:srgbClr val="2a1a00"/>
                </a:solidFill>
                <a:latin typeface="Impact"/>
              </a:rPr>
              <a:t>ПРИМЕР ПРОГРАММИРОВАНИЯ ДИАЛОГА</a:t>
            </a:r>
            <a:br>
              <a:rPr sz="4600"/>
            </a:b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928880"/>
            <a:ext cx="84358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мпьютерная программ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овсем не обязательно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должна иметь математическое содержание. Вот пример сценария, судя по которому компьютер выполняет роль электронной няньки, заботящейся о здоровье школьника. Приводятся два варианта развития сценария, в зависимости от ответа ребенка.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052280"/>
            <a:ext cx="81532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Пример программирования диалога</a:t>
            </a:r>
            <a:endParaRPr b="0" lang="en-US" sz="7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76000" y="260280"/>
            <a:ext cx="8891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  <a:ea typeface="Arial"/>
              </a:rPr>
              <a:t>Вариант 1: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Ты был болен. Измерь температуру.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Сообщи, какая у тебя температура: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36.5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Ты здоров! Иди в школу. Желаю успехов! 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  <a:ea typeface="Arial"/>
              </a:rPr>
              <a:t>Вариант 2: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Ты был болен. Измерь температуру! 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Сообщи, какая у тебя температура: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37.3 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Ты болен! Ложись в постель. Поправляйся!</a:t>
            </a: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2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91840" y="1052280"/>
            <a:ext cx="84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По этому алгоритму получается следующая программа на Паскале: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ВСПОМНИМ ИЗВЕСТНО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37800" y="1557360"/>
            <a:ext cx="76345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то такое алгоритм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ие алгоритмические структуры мы с вами успели изучить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 записывается оператор вывода на экран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 записывается оператор ввода с клавиатуры? 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400"/>
            </a:br>
            <a:endParaRPr b="0" lang="en-US" sz="2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0"/>
            <a:ext cx="9828360" cy="75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anny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: real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ritel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‘Ты был болен. Измерь температуру!’)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‘Сообщи какая у тебя температура:’)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ln(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&gt;37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l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‘Ты болен! Ложись в постель.’)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правляй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’)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l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‘Ты здоров! Идти в школу.’);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аю успех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’)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zoom dir="in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два момента: 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-первых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перед словом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ill Sans MT"/>
              </a:rPr>
              <a:t>else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orbel"/>
              </a:rPr>
              <a:t>ни в коем случае нельзя ставить точку с запятой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; 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-вторых, в записи и при вводе вещественных чисел целая и дробная части числа отделяются десятичной точкой..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fade thruBlk="true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ЗАДАНИ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38160" y="1484280"/>
            <a:ext cx="802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оставьте программу которая по номеру класса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от 1 до 3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  выводит сообщен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«Привет 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– классник»</a:t>
            </a:r>
            <a:endParaRPr b="0" lang="en-US" sz="4400" spc="-1" strike="noStrike">
              <a:solidFill>
                <a:srgbClr val="595959"/>
              </a:solidFill>
              <a:latin typeface="Gill Sans MT"/>
            </a:endParaRPr>
          </a:p>
          <a:p>
            <a:pPr marL="200880" indent="-2008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Например если введен 1-й класс выводит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«привет 1-классник»</a:t>
            </a:r>
            <a:endParaRPr b="0" lang="en-US" sz="4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60280"/>
            <a:ext cx="81979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0" spc="-1" strike="noStrike">
                <a:solidFill>
                  <a:srgbClr val="2a1a00"/>
                </a:solidFill>
                <a:latin typeface="Impact"/>
              </a:rPr>
              <a:t>ПРОГРАММА:</a:t>
            </a:r>
            <a:br>
              <a:rPr sz="4600"/>
            </a:br>
            <a:endParaRPr b="0" lang="en-US" sz="6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280" y="148428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Program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Privet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ar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k : integer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Begin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WriteLn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 (‘Введите ваш класс’)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Readln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IF k  =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Then Write (’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Привет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-классник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’)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IF k  =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Then Write (’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Привет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-классник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’)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IF k  =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 Then Write (’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Привет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-классник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’);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End</a:t>
            </a:r>
            <a:r>
              <a:rPr b="0" lang="ru-RU" sz="35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5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pull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ДОМАШНЕЕ ЗАДАНИЕ: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1332000" y="2349360"/>
            <a:ext cx="72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раграф 14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ы и за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ЗАДАНИ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orbel"/>
              </a:rPr>
              <a:t>Составьте программу которая запрашивает возраст с клавиатуры и в зависимости от него  выводит сообщение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orbel"/>
              </a:rPr>
              <a:t>Вариант 1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orbel"/>
              </a:rPr>
              <a:t>Тебе уже  исполнилось  14 лет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600" spc="-1" strike="noStrike">
                <a:solidFill>
                  <a:srgbClr val="2a1a00"/>
                </a:solidFill>
                <a:latin typeface="Impact"/>
              </a:rPr>
              <a:t>ПРОВЕРКА УСВОЕНИЯ ЗНАНИЙ: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400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остройте алгоритм и составьте программу, по которой будет реализован следующий сценарий: компьютер запрашивает номер дня недели, после ввода компьютер сообщает название этого дня. Например, если ввели 1, то выведется фраза «Это понедельник» и т. д.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19280" y="259920"/>
            <a:ext cx="706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gram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n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: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ger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egi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 ('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ведите день недели: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dln(d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d=1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writeln ('Сегодня понедельник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=2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Сегодня вторник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=3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Сегодня среда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=4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егодня четверг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=5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Сегодня пятница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=6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егодня суббота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d=7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writeln ('Сегодня воскресенье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ln ('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!');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100" spc="-1" strike="noStrike">
                <a:solidFill>
                  <a:srgbClr val="2a1a00"/>
                </a:solidFill>
                <a:latin typeface="Impact"/>
              </a:rPr>
              <a:t>ВСПОМНИМ ИЗВЕСТНОЕ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37800" y="1557360"/>
            <a:ext cx="76345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 какого оператора начинается программа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то тако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AR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 какого оператора начинается исполняемая часть программы?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им оператором заканчивается программа на Паскале? 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232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a1a00"/>
                </a:solidFill>
                <a:latin typeface="Impact"/>
              </a:rPr>
              <a:t>ПОВТОРИМ ЗНАНИЯ ПО ТЕМЕ «ОПЕРАТОР </a:t>
            </a:r>
            <a:r>
              <a:rPr b="1" lang="ru-RU" sz="4400" spc="-1" strike="noStrike" u="sng">
                <a:solidFill>
                  <a:srgbClr val="2a1a00"/>
                </a:solidFill>
                <a:uFillTx/>
                <a:latin typeface="Impact"/>
              </a:rPr>
              <a:t>УСЛОВНОГО ПЕРЕХОДА</a:t>
            </a:r>
            <a:r>
              <a:rPr b="1" lang="ru-RU" sz="4400" spc="-1" strike="noStrike">
                <a:solidFill>
                  <a:srgbClr val="2a1a00"/>
                </a:solidFill>
                <a:latin typeface="Impact"/>
              </a:rPr>
              <a:t>».</a:t>
            </a:r>
            <a:endParaRPr b="0" lang="en-US" sz="4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37800" y="1773360"/>
            <a:ext cx="79549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то такое линейный алгоритм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то такое разветвляющийся алгоритм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записывается краткая форма оператора условного перехода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выполняется оператор условного перехода в краткой форме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записывается полная форма оператора условного перехода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выполняется оператор условного перехода в полной форме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8232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a1a00"/>
                </a:solidFill>
                <a:latin typeface="Impact"/>
              </a:rPr>
              <a:t>ПРОВЕРИМ ЗНАНИЯ ПО ТЕМЕ «ОПЕРАТОР </a:t>
            </a:r>
            <a:r>
              <a:rPr b="1" lang="ru-RU" sz="4400" spc="-1" strike="noStrike" u="sng">
                <a:solidFill>
                  <a:srgbClr val="2a1a00"/>
                </a:solidFill>
                <a:uFillTx/>
                <a:latin typeface="Impact"/>
              </a:rPr>
              <a:t>УСЛОВНОГО ПЕРЕХОДА</a:t>
            </a:r>
            <a:r>
              <a:rPr b="1" lang="ru-RU" sz="4400" spc="-1" strike="noStrike">
                <a:solidFill>
                  <a:srgbClr val="2a1a00"/>
                </a:solidFill>
                <a:latin typeface="Impact"/>
              </a:rPr>
              <a:t>».</a:t>
            </a:r>
            <a:endParaRPr b="0" lang="en-US" sz="4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37800" y="1773360"/>
            <a:ext cx="79549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то такое составное условие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программа запускается на выполнение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де можно увидеть результат выполнения программы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920" y="1052280"/>
            <a:ext cx="81532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Что такое диалог с компьютером?</a:t>
            </a:r>
            <a:endParaRPr b="0" lang="en-US" sz="8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8160" y="382320"/>
            <a:ext cx="809784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600" spc="-1" strike="noStrike">
                <a:solidFill>
                  <a:srgbClr val="2a1a00"/>
                </a:solidFill>
                <a:latin typeface="Impact"/>
              </a:rPr>
              <a:t>ПРИ ВЫПОЛНЕНИИ ПРОГРАММЫ НА КОМПЬЮТЕРЕ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37800" y="2286000"/>
            <a:ext cx="76345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Во-первых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епонятно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 когда машина начинает ожидать ввода данных, какие данные и в каком порядке нужно вводить. 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Во-вторых,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результаты получаются в виде чисел на экране, без всяких пояснений их смысла. 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4920" y="1052280"/>
            <a:ext cx="81532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Monotype Corsiva"/>
              </a:rPr>
              <a:t>Поэтому вводят диалог с компьютером</a:t>
            </a:r>
            <a:endParaRPr b="0" lang="en-US" sz="8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diamond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юбую программу составлять можно так, чтобы ее исполнени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имитировало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диалог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между компьютером и пользователем в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онятной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для человека форме.</a:t>
            </a:r>
            <a:endParaRPr b="0" lang="en-US" sz="4400" spc="-1" strike="noStrike">
              <a:solidFill>
                <a:srgbClr val="595959"/>
              </a:solidFill>
              <a:latin typeface="Gill Sans MT"/>
            </a:endParaRPr>
          </a:p>
          <a:p>
            <a:pPr marL="189720" indent="-18972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transition>
    <p:pull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29:48Z</dcterms:created>
  <dc:creator>Ганзя</dc:creator>
  <dc:description/>
  <dc:language>en-US</dc:language>
  <cp:lastModifiedBy>school3</cp:lastModifiedBy>
  <dcterms:modified xsi:type="dcterms:W3CDTF">2025-03-12T16:53:14Z</dcterms:modified>
  <cp:revision>29</cp:revision>
  <dc:subject/>
  <dc:title>Презентация PowerPoint</dc:title>
</cp:coreProperties>
</file>