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B3BC-F89E-45C2-AE13-7CFD3279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08DA-00F7-4327-9F11-667793B2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35A-8FA2-4B58-95EE-0071F90D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3B3-417A-445B-8B28-12B88577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CCB0-9751-45B7-9508-693EAD2E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22E4-9263-4A65-A97F-DA13E569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377-60FB-49EE-B142-515B5F73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1C7-72A2-4901-A4D0-0213848F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058E-D92E-4689-8672-1EF4293D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6D93-CF42-4055-8698-51971A9F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A44C-A8A3-45D2-AC73-F8A2023C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D96-18D1-4087-B4BF-7A181BC3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0532-A175-4E7D-B52B-79C635E7A2F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Редактирование</a:t>
            </a:r>
            <a:br>
              <a:rPr sz="8000"/>
            </a:b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текста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надо сделать, чтобы бы выделить слово 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до: сделать двойной щелчок внутри слова;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надо сделать чтобы выделить 1 строку целиком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делать 1 щелчок слева на полях напротив этой строки;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надо сделать чтобы  выделить абзац 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3860280"/>
            <a:ext cx="8229600" cy="22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делать двойной щелчок слева на полях напротив этого абзаца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ffffff"/>
                </a:solidFill>
                <a:uFillTx/>
                <a:latin typeface="Calibri"/>
              </a:rPr>
              <a:t>Абзац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это фрагмент текста до нажатия клавиши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nter</a:t>
            </a: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8508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надо сделать чтобы узнать, является ли данный фрагмент абзацем или нет 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нажать на кнопку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435640" y="3860640"/>
            <a:ext cx="240012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надо сделать чтобы выделить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весь текст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407628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делать три щелчка слева на полях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делает эта кнопка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2492280"/>
            <a:ext cx="40384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орматирует текст по образцу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2" descr="http://gplinform.ucoz.ru/word/w6.jpg"/>
          <p:cNvPicPr/>
          <p:nvPr/>
        </p:nvPicPr>
        <p:blipFill>
          <a:blip r:embed="rId1"/>
          <a:stretch/>
        </p:blipFill>
        <p:spPr>
          <a:xfrm>
            <a:off x="1042920" y="2468520"/>
            <a:ext cx="28814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делает эта кнопка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2428920"/>
            <a:ext cx="403848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ырезает  выделенный текст в буфер обмен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http://gplinform.ucoz.ru/word/w5.jpg"/>
          <p:cNvPicPr/>
          <p:nvPr/>
        </p:nvPicPr>
        <p:blipFill>
          <a:blip r:embed="rId1"/>
          <a:stretch/>
        </p:blipFill>
        <p:spPr>
          <a:xfrm>
            <a:off x="971640" y="242892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делает эта кнопка? 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2565000"/>
            <a:ext cx="40384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опирует выделенный  текст в буфер обмен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Picture 2" descr="http://gplinform.ucoz.ru/word/w3.jpg"/>
          <p:cNvPicPr/>
          <p:nvPr/>
        </p:nvPicPr>
        <p:blipFill>
          <a:blip r:embed="rId1"/>
          <a:stretch/>
        </p:blipFill>
        <p:spPr>
          <a:xfrm>
            <a:off x="971640" y="2565360"/>
            <a:ext cx="28796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ем "копирование" отличается от "вырезания" 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ри "копировании" исходный текст сохраняется, а при "вырезании" не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Calibri"/>
              </a:rPr>
              <a:t>Что означает слово "редактирование" ?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Внесение изменений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делает эта кнопка? 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2467080"/>
            <a:ext cx="403848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ставляет текст из буфера обмен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2" descr="http://gplinform.ucoz.ru/word/w4.jpg"/>
          <p:cNvPicPr/>
          <p:nvPr/>
        </p:nvPicPr>
        <p:blipFill>
          <a:blip r:embed="rId1"/>
          <a:stretch/>
        </p:blipFill>
        <p:spPr>
          <a:xfrm>
            <a:off x="826920" y="2467080"/>
            <a:ext cx="30099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Как узнать какой режим установлен "вставка" или "замена"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422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Посмотреть в строке состояни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Что делает комбинация клавиш </a:t>
            </a:r>
            <a:br>
              <a:rPr sz="6600"/>
            </a:b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SHIFT + HOME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414972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ыделяет текст до начала стро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Calibri"/>
              </a:rPr>
              <a:t>Что делает комбинация клавиш 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SHIFT + END ?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ыделяет текст, с позиции курсора, до конца строки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Что делает эта кнопка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708000" y="2133720"/>
            <a:ext cx="54356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тменяет последнее действи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Можно отменить сколько угодно действий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http://gplinform.ucoz.ru/word/w1.jpg"/>
          <p:cNvPicPr/>
          <p:nvPr/>
        </p:nvPicPr>
        <p:blipFill>
          <a:blip r:embed="rId1"/>
          <a:stretch/>
        </p:blipFill>
        <p:spPr>
          <a:xfrm>
            <a:off x="395280" y="2289240"/>
            <a:ext cx="299880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11280" y="2276280"/>
            <a:ext cx="4475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озвращает отмененное действи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2" descr="http://gplinform.ucoz.ru/word/w2.jpg"/>
          <p:cNvPicPr/>
          <p:nvPr/>
        </p:nvPicPr>
        <p:blipFill>
          <a:blip r:embed="rId1"/>
          <a:stretch/>
        </p:blipFill>
        <p:spPr>
          <a:xfrm>
            <a:off x="609480" y="2852640"/>
            <a:ext cx="3202200" cy="244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  <a:ea typeface="Arial"/>
              </a:rPr>
              <a:t>Что делает эта кнопка?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Calibri"/>
              </a:rPr>
              <a:t>выделение и копирование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Что такое "буфер обмена" данными ?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бласть памяти содержащая любой фрагмент информации во время работы П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1-23T15:28:12Z</dcterms:created>
  <dc:creator>school3</dc:creator>
  <dc:description/>
  <dc:language>en-US</dc:language>
  <cp:lastModifiedBy>school3</cp:lastModifiedBy>
  <dcterms:modified xsi:type="dcterms:W3CDTF">2025-01-24T12:23:11Z</dcterms:modified>
  <cp:revision>6</cp:revision>
  <dc:subject/>
  <dc:title>Презентация PowerPoint</dc:title>
</cp:coreProperties>
</file>