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224-823D-4D82-AADA-B13D50BB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2FB-C426-47E6-A9DC-C7DAAF25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580-6E8C-4817-8FC4-887C740C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471-6A96-4662-8571-415FCEB2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3AB-35CB-4573-9048-A364A022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B8A-B656-42C0-89D2-765BC46F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3F2-F9AE-4D21-A22E-407A973B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81E-1B83-4BB0-A764-2448FCA2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32D-B90D-461B-8806-9E632AD4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424-2A84-4E88-A56A-E2C671DC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6BF-D714-4F89-A060-94F7A951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350-1A2F-4082-A45A-7594895D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2301-79B4-48F1-AA9C-A8D362FD4E4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Редактирование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текста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надо сделать, чтобы бы выделить слово 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до: сделать двойной щелчок внутри слова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надо сделать чтобы выделить 1 строку целиком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делать 1 щелчок слева на полях напротив этой строки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надо сделать чтобы  выделить абзац 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делать двойной щелчок слева на полях напротив этого абзац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ffff"/>
                </a:solidFill>
                <a:uFillTx/>
                <a:latin typeface="Calibri"/>
              </a:rPr>
              <a:t>Абзац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фрагмент текста до нажатия клавиши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nter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8508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надо сделать чтобы узнать, является ли данный фрагмент абзацем или нет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жать на кнопку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435640" y="3860640"/>
            <a:ext cx="24001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надо сделать чтобы выделить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весь текст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делать три щелчка слева на полях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делает эта кнопка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249228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орматирует текст по образцу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http://gplinform.ucoz.ru/word/w6.jpg"/>
          <p:cNvPicPr/>
          <p:nvPr/>
        </p:nvPicPr>
        <p:blipFill>
          <a:blip r:embed="rId1"/>
          <a:stretch/>
        </p:blipFill>
        <p:spPr>
          <a:xfrm>
            <a:off x="1042920" y="2468520"/>
            <a:ext cx="2881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делает эта кнопка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2428920"/>
            <a:ext cx="40384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ырезает  выделенный текст в буфер обмен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http://gplinform.ucoz.ru/word/w5.jpg"/>
          <p:cNvPicPr/>
          <p:nvPr/>
        </p:nvPicPr>
        <p:blipFill>
          <a:blip r:embed="rId1"/>
          <a:stretch/>
        </p:blipFill>
        <p:spPr>
          <a:xfrm>
            <a:off x="971640" y="242892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делает эта кнопка? 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2565000"/>
            <a:ext cx="40384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пирует выделенный  текст в буфер обмен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http://gplinform.ucoz.ru/word/w3.jpg"/>
          <p:cNvPicPr/>
          <p:nvPr/>
        </p:nvPicPr>
        <p:blipFill>
          <a:blip r:embed="rId1"/>
          <a:stretch/>
        </p:blipFill>
        <p:spPr>
          <a:xfrm>
            <a:off x="971640" y="256536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ем "копирование" отличается от "вырезания" 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 "копировании" исходный текст сохраняется, а при "вырезании" н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Что означает слово "редактирование" ?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несение изменений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делает эта кнопка? 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2467080"/>
            <a:ext cx="40384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ставляет текст из буфера обмен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gplinform.ucoz.ru/word/w4.jpg"/>
          <p:cNvPicPr/>
          <p:nvPr/>
        </p:nvPicPr>
        <p:blipFill>
          <a:blip r:embed="rId1"/>
          <a:stretch/>
        </p:blipFill>
        <p:spPr>
          <a:xfrm>
            <a:off x="826920" y="246708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ак узнать какой режим установлен "вставка" или "замена"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осмотреть в строке состоя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Что делает комбинация клавиш 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SHIFT + HOME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ыделяет текст до начала стро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Что делает комбинация клавиш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SHIFT + END ?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ыделяет текст, с позиции курсора, до конца строк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Что делает эта кнопка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08000" y="2133720"/>
            <a:ext cx="54356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тменяет последнее действ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ожно отменить сколько угодно действий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http://gplinform.ucoz.ru/word/w1.jpg"/>
          <p:cNvPicPr/>
          <p:nvPr/>
        </p:nvPicPr>
        <p:blipFill>
          <a:blip r:embed="rId1"/>
          <a:stretch/>
        </p:blipFill>
        <p:spPr>
          <a:xfrm>
            <a:off x="395280" y="2289240"/>
            <a:ext cx="299880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11280" y="2276280"/>
            <a:ext cx="4475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звращает отмененное действ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http://gplinform.ucoz.ru/word/w2.jpg"/>
          <p:cNvPicPr/>
          <p:nvPr/>
        </p:nvPicPr>
        <p:blipFill>
          <a:blip r:embed="rId1"/>
          <a:stretch/>
        </p:blipFill>
        <p:spPr>
          <a:xfrm>
            <a:off x="609480" y="2852640"/>
            <a:ext cx="320220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Что делает эта кнопка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выделение и копирование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такое "буфер обмена" данными 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бласть памяти содержащая любой фрагмент информации во время работы П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23T15:28:12Z</dcterms:created>
  <dc:creator>school3</dc:creator>
  <dc:description/>
  <dc:language>en-US</dc:language>
  <cp:lastModifiedBy>school3</cp:lastModifiedBy>
  <dcterms:modified xsi:type="dcterms:W3CDTF">2025-01-24T12:23:11Z</dcterms:modified>
  <cp:revision>6</cp:revision>
  <dc:subject/>
  <dc:title>Презентация PowerPoint</dc:title>
</cp:coreProperties>
</file>