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3C9-E399-402C-A655-5ED5B8E5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A6A-159D-4BCD-957B-732B4E59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0BB-6BAB-45ED-B060-4B1EFF28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F7A-2C92-45D2-AEFF-DA1C7430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DAC-E2A2-4DDC-A564-5CCCF9C7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79E-5ADC-4D75-B14D-EFF5FF6D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93A-3E62-4F8A-854A-9D57CE8A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C86-A3F0-4881-BB2C-3766C516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E47-0B83-4F15-B06F-565522EB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E11-AA55-4AB8-B342-0BA8E76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10A-B876-49BA-BDB1-7232F49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089-3DBD-4FBE-9425-9B8D0B86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EEB-8782-4D07-98FA-5F0CF182FB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текста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Размер шрифта: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4936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1 компьютерный пункт равен 1 ⁄ 72 дюйма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т. е. = 0,3527 мм.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4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бы узнать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размер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 надо установить на него курсор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382752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 окне панели инструментов «Главная» или в окне форматирования текста отображается размер шрифта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059280" y="2643120"/>
            <a:ext cx="2952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начерт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лужирный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36640" y="2827440"/>
            <a:ext cx="27273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начерт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урси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00000" y="2827440"/>
            <a:ext cx="27669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начерт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24000" y="2492280"/>
            <a:ext cx="4762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дчеркнутый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836640" y="2894040"/>
            <a:ext cx="2727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Можно выбрать 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разные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варианты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подчеркива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2133720"/>
            <a:ext cx="4897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ля этого надо: нажать на стрелку справа от клавиши подчеркивания, появится падающее меню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5364000" y="2262240"/>
            <a:ext cx="33814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Можно выбрать 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разные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варианты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подчеркива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280" y="2133360"/>
            <a:ext cx="35276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явитс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адающе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425920" y="2205000"/>
            <a:ext cx="2962440" cy="43801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584280" y="4513320"/>
            <a:ext cx="455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 котором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мышь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брать нужны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При форматировании 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абзацев</a:t>
            </a: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применяется </a:t>
            </a: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выравнивание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текста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выравнив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абзаце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 левому краю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035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выравнив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абзаце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 центру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881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3068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это </a:t>
            </a:r>
            <a:r>
              <a:rPr b="1" lang="ru-RU" sz="7200" spc="-1" strike="noStrike" u="sng">
                <a:solidFill>
                  <a:srgbClr val="ffffff"/>
                </a:solidFill>
                <a:uFillTx/>
                <a:latin typeface="Calibri"/>
              </a:rPr>
              <a:t>оформление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 текст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выравнив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абзаце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 правому краю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035160" cy="252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287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выравнив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абзаце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 ширине страницы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27367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На панели инструментов «Главная» располагаются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Calibri"/>
              </a:rPr>
              <a:t>дополнительные</a:t>
            </a: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нопки форматирования шрифта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начерт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надстрочный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26920" y="2827440"/>
            <a:ext cx="29386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начерт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дстрочный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36640" y="2827440"/>
            <a:ext cx="28861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начерт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зачеркнутый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2843280"/>
            <a:ext cx="32018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ые параметры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начерта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шрифт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егистр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95280" y="2790720"/>
            <a:ext cx="37148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«Регистр» - это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491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реобразование </a:t>
            </a:r>
            <a:r>
              <a:rPr b="1" lang="ru-RU" sz="6600" spc="-1" strike="noStrike" u="sng">
                <a:solidFill>
                  <a:srgbClr val="ffffff"/>
                </a:solidFill>
                <a:uFillTx/>
                <a:latin typeface="Calibri"/>
              </a:rPr>
              <a:t>всех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 букв выделенного фрагмента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«Регистр»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6880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Цвет шрифта.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 </a:t>
            </a: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основным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параметрам форматирования относятся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64464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ид шрифта, размер, начертание, цвет.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Чтобы изменить цве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27280" y="1844640"/>
            <a:ext cx="43988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до выделить требуемый фрагмент текста, нажать на стрелку справа от кнопки «цвет текста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96720" y="2060640"/>
            <a:ext cx="3743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Чтобы изменить цве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88000" y="1412640"/>
            <a:ext cx="3822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явиться падающее меню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0" name="Объект 4"/>
          <p:cNvGraphicFramePr/>
          <p:nvPr/>
        </p:nvGraphicFramePr>
        <p:xfrm>
          <a:off x="539640" y="1700280"/>
          <a:ext cx="367200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36720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Прямоугольник 5"/>
          <p:cNvSpPr/>
          <p:nvPr/>
        </p:nvSpPr>
        <p:spPr>
          <a:xfrm>
            <a:off x="4716360" y="42260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ышью сделать щелчок по требуемому цвету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Форматировать можно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3429000"/>
            <a:ext cx="91440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только </a:t>
            </a:r>
            <a:r>
              <a:rPr b="1" lang="ru-RU" sz="7200" spc="-1" strike="noStrike" u="sng">
                <a:solidFill>
                  <a:srgbClr val="ffffff"/>
                </a:solidFill>
                <a:uFillTx/>
                <a:latin typeface="Calibri"/>
              </a:rPr>
              <a:t>выделенный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 текст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Шрифт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это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2205000"/>
            <a:ext cx="91440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олный набор символов определенного начертани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Чтобы узнать, какой шрифт установлен надо: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292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тановить на него курсор и посмотреть на панель инструментов «Главная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 окне отображения параметров шрифта будет указан его вид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68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3139560"/>
            <a:ext cx="914400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до нажать на стрелку вниз, справа от окна «Шрифт», мышью выбрать новый шрифт и сделать по нему щелчок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179280" y="42696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Чтобы </a:t>
            </a: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изменить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 шриф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835280" y="1766880"/>
            <a:ext cx="54100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Размер шрифта. 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0" y="22748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азмер шрифта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о-научному называется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кегль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Размер шрифта: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диницей измерения шрифта является 1 «пункт».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 компьютерах, шрифт измеряется в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компьютерных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пунктах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3T15:28:12Z</dcterms:created>
  <dc:creator>school3</dc:creator>
  <dc:description/>
  <dc:language>en-US</dc:language>
  <cp:lastModifiedBy>school3</cp:lastModifiedBy>
  <dcterms:modified xsi:type="dcterms:W3CDTF">2025-01-31T13:18:39Z</dcterms:modified>
  <cp:revision>13</cp:revision>
  <dc:subject/>
  <dc:title>Презентация PowerPoint</dc:title>
</cp:coreProperties>
</file>