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D59-709E-4A7C-BCCD-7F6A56BB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906-AE35-46E2-A3CA-F7C07DD0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020-8448-44A9-849E-D0C1ECBD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889-08B9-49BA-B83D-3C20BC6A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6EB-07DF-4966-9923-89FA35BF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991-A3D7-4A84-BFB6-14B8667B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36F-F5F2-401F-8168-A46747C4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A7F-D75D-438F-BCF3-FB85A461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8AD-9CC7-4482-8252-086DA0B2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46D-2F82-4432-974D-63ECD6D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0F0-8D01-47A8-84FC-AFDED1E5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385-35F3-43A2-84BB-9F4DC50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8CED-623B-490B-B21B-68BD547553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Нумерованные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маркированные списки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0800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1. Выделите требуемый участок текста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2923920"/>
            <a:ext cx="84960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2. Нажмите кнопку Маркеры, Нумерация или Многоуровневый список в группе «Абзац» на вкладке «Главная»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68360" y="1881360"/>
            <a:ext cx="7920000" cy="2268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503640" y="620640"/>
            <a:ext cx="81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Кнопки для создания списк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Вид маркера и номера 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0" y="22748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Чтобы сменить вид маркера или номера надо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Вид маркера. 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1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щелкнуть по стрелочке вниз на кнопке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выбрать из библиотеки подходящий стиль для нумерации или маркировки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077840" y="0"/>
            <a:ext cx="6518520" cy="1003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26920" y="-27000"/>
            <a:ext cx="764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Чтобы начать нумерацию </a:t>
            </a:r>
            <a:r>
              <a:rPr b="1" lang="ru-RU" sz="7200" spc="-1" strike="noStrike" u="sng">
                <a:solidFill>
                  <a:srgbClr val="ffffff"/>
                </a:solidFill>
                <a:uFillTx/>
                <a:latin typeface="Calibri"/>
              </a:rPr>
              <a:t>заново</a:t>
            </a: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 в середине нумерованного списка надо: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6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выделить и щелкнуть 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правой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кнопкой мыши элемент списка, который должен идти под номером 1, и выбрать в контекстном меню команду – «Начать заново»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нопки при создании многоуровневого списка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увеличить отступ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836640" y="2852640"/>
            <a:ext cx="2906640" cy="26161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227840" y="4205160"/>
            <a:ext cx="4263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ля перевода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 более низкий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ровень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нопки при создании многоуровневого списка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4720" y="2492280"/>
            <a:ext cx="440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уменьшить отступ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836640" y="2612880"/>
            <a:ext cx="2906640" cy="26164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4228200" y="4205160"/>
            <a:ext cx="44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ля перевода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 более высок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ровень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Списки используются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3068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когда в тексте идёт </a:t>
            </a:r>
            <a:r>
              <a:rPr b="0" lang="ru-RU" sz="7200" spc="-1" strike="noStrike" u="sng">
                <a:solidFill>
                  <a:srgbClr val="ffffff"/>
                </a:solidFill>
                <a:uFillTx/>
                <a:latin typeface="Calibri"/>
              </a:rPr>
              <a:t>перечисление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 объектов 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умерованный список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это список, элементы которого сопровождают числовые или буквенные маркеры, следующие в порядке возрастания числового или алфавитного значен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Маркированный список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это список, элементы которого сопровождают графические маркеры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Многоуровневый список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это список, который содержит два, и более уровней маркированного или нумерованного списка в пределах одного общего списк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Нумерованный список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242100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хорош для описания действий, в которых </a:t>
            </a:r>
            <a:r>
              <a:rPr b="1" lang="ru-RU" sz="6600" spc="-1" strike="noStrike" u="sng">
                <a:solidFill>
                  <a:srgbClr val="ffffff"/>
                </a:solidFill>
                <a:uFillTx/>
                <a:latin typeface="Calibri"/>
              </a:rPr>
              <a:t>важен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 порядок следования.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Маркированный список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242100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удобен, когда порядок элементов в нём </a:t>
            </a:r>
            <a:r>
              <a:rPr b="1" lang="ru-RU" sz="6600" spc="-1" strike="noStrike" u="sng">
                <a:solidFill>
                  <a:srgbClr val="ffffff"/>
                </a:solidFill>
                <a:uFillTx/>
                <a:latin typeface="Calibri"/>
              </a:rPr>
              <a:t>не важен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Многоуровневые списки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242100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спользуют в тех случаях, когда требуется отразить 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alibri"/>
              </a:rPr>
              <a:t>иерархическую структуру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, подчинение одних элементов другим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Порядок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создания 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списков 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23T15:28:12Z</dcterms:created>
  <dc:creator>school3</dc:creator>
  <dc:description/>
  <dc:language>en-US</dc:language>
  <cp:lastModifiedBy>school3</cp:lastModifiedBy>
  <dcterms:modified xsi:type="dcterms:W3CDTF">2025-02-11T08:20:41Z</dcterms:modified>
  <cp:revision>20</cp:revision>
  <dc:subject/>
  <dc:title>Презентация PowerPoint</dc:title>
</cp:coreProperties>
</file>