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48AB-EC4E-4DC7-9B03-9601F5F1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912-DB3A-4BC3-B81B-FB7DC0CE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0F0F-09BB-4335-B7F0-6BDD53C2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234-BB7B-4789-8C3E-90547CEC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5B6-C3FF-435F-82AF-842C0230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3F7E-CF85-4F84-A3BF-01AF8197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F0B2-32CA-440B-BC71-9280687A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7C16-FB18-4680-B434-5BD3A09C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DC13-FE11-4D9C-B91B-CF967768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086C-D8A3-4E64-8B26-64E6DAC3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3AE-695D-4352-9C3C-279DF364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BBE3-A6EA-4656-B9E1-1EE0C6EB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637F-2AFB-4F1E-B818-DDEF5ADAB61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130120"/>
            <a:ext cx="885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Добавление</a:t>
            </a:r>
            <a:br>
              <a:rPr sz="8000"/>
            </a:b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таблиц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36360" y="1406520"/>
            <a:ext cx="922176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alibri"/>
              </a:rPr>
              <a:t>Маркер таблицы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Если навести указатель на верхний левый угол таблицы, то появиться квадрат со стрелками в 4 стороны – это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маркер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таблицы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alibri"/>
              </a:rPr>
              <a:t>Маркер таблицы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rcRect l="0" t="0" r="0" b="28658"/>
          <a:stretch/>
        </p:blipFill>
        <p:spPr>
          <a:xfrm>
            <a:off x="1692360" y="1700280"/>
            <a:ext cx="575928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5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При работе с таблицей становится активной панель инструментов: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«Конструктор»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-71280" y="4292640"/>
            <a:ext cx="93232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Дополнительные параметры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форматирования таблиц находятся на вкладке ..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«Макет»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4221000"/>
            <a:ext cx="91803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стиль оформления 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Можно задать готовый стиль оформления таблицы. Для этого надо: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делать щелчок внутри таблицы;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 панели инструментов «Конструктор», в разделе «Стили таблиц» (находится посередине) мышью выбрать нужный стиль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объединить ячейки таблицы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Чтобы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объединить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ячейки надо: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ыделить нужные ячейки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а выделенном фоне сделать правый щелчок и выбрать пункт «объединить»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92120" y="-27000"/>
            <a:ext cx="58896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добавление строк и столбцов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адо внутри таблицы сделать щелчок и выбрать пункт «Вставить» со стрелкой. В появившемся подменю выбрать  «столбцы слева», «столбцы справа», «строки сверху», «строки снизу»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Текст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Текст в таблице можно размещать </a:t>
            </a:r>
            <a:r>
              <a:rPr b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горизонтально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вертикально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.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Чтобы изменить направление текста надо: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Чтобы вставить таблицу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в документ 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 надо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в панели меню выбрать пункт «Вставка»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Текст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1. Сделать щелчок внутри ячейки, в которой меняем направление текста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2. В панели меню выбрать пункт «Макет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3. На панели инструментов «Макет» в разделе «Выравнивание» нажать на кнопку «Направление текста»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4" name="Объект 2"/>
          <p:cNvGraphicFramePr/>
          <p:nvPr/>
        </p:nvGraphicFramePr>
        <p:xfrm>
          <a:off x="34920" y="1341360"/>
          <a:ext cx="56865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341360"/>
                    <a:ext cx="56865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Picture 3" descr=""/>
          <p:cNvPicPr/>
          <p:nvPr/>
        </p:nvPicPr>
        <p:blipFill>
          <a:blip r:embed="rId3"/>
          <a:stretch/>
        </p:blipFill>
        <p:spPr>
          <a:xfrm>
            <a:off x="5924520" y="1268280"/>
            <a:ext cx="29685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толщина линий таблицы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16002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 панели инструментов «Конструктор» нажать на стрелку справа от кнопки «Толщина пера»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ыбрать требуемый вариант и сделать по нему щелчок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Установится новая толщина линий таблицы, для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последующих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действий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0" name="Объект 2"/>
          <p:cNvGraphicFramePr/>
          <p:nvPr/>
        </p:nvGraphicFramePr>
        <p:xfrm>
          <a:off x="34920" y="1197000"/>
          <a:ext cx="907416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197000"/>
                    <a:ext cx="907416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цвет фона ячейки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можно менять цвет фона ячейки. Для этого надо воспользоваться кнопкой «Заливка».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Экспресс-таблиц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это таблица готового шаблон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на имеет определенный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стиль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, и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количество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строк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столбцов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. Она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вставляется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уже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готовой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,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 определенными заголовками и содержанием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Чтобы изменить толщину линий таблицы надо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Чтобы поменять цвет фона ячейки надо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спользовать кнопку «заливка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Чтобы текст в таблице сделать вертикальным надо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спользовать кнопку или пункт «Направление текста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троки и столбцы в таблицу можно добавлять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де угодно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Чтобы выделить всю таблицу сразу надо: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делать щелчок по маркеру таблиц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В появившейся панели инструментов сделать щелчок по кнопке «Таблица».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619308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оявиться выпадающее меню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В появившемся меню можно вставить таблицу </a:t>
            </a:r>
            <a:r>
              <a:rPr b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двумя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 способами: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1 способ: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928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мышью выделить нужное количество ячеек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(они поменяют цвет ) и и сделать  щелчок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2" name="Объект 5"/>
          <p:cNvGraphicFramePr/>
          <p:nvPr/>
        </p:nvGraphicFramePr>
        <p:xfrm>
          <a:off x="4211640" y="1484280"/>
          <a:ext cx="475308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84280"/>
                    <a:ext cx="47530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2 способ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ыбрать пункт меню «Вставить таблицу».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 появившемся окне цифрами или с помощью мыши указать количество строк и столбцов и нажать кнопку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Ok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" name="Объект 5"/>
          <p:cNvGraphicFramePr/>
          <p:nvPr/>
        </p:nvGraphicFramePr>
        <p:xfrm>
          <a:off x="3995640" y="1484280"/>
          <a:ext cx="475308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484280"/>
                    <a:ext cx="47530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2 способ: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ыбрать пункт меню «Вставить таблицу».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 появившемся окне цифрами или с помощью мыши указать количество строк и столбцов и нажать кнопку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Ok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3" name="Объект 6"/>
          <p:cNvGraphicFramePr/>
          <p:nvPr/>
        </p:nvGraphicFramePr>
        <p:xfrm>
          <a:off x="4284720" y="1773360"/>
          <a:ext cx="4552920" cy="19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55292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По «умолчанию»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таблица вставляется: по 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alibri"/>
              </a:rPr>
              <a:t>всей</a:t>
            </a: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alibri"/>
              </a:rPr>
              <a:t>ширине</a:t>
            </a: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alibri"/>
              </a:rPr>
              <a:t>страницы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2 способ: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Если необходимо, чтобы 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таблица была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Calibri"/>
              </a:rPr>
              <a:t>шириной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Calibri"/>
              </a:rPr>
              <a:t>меньше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 чем ширина листа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надо:  вставить таблицу по способу № 2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ункт «По содержимому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1-23T15:28:12Z</dcterms:created>
  <dc:creator>school3</dc:creator>
  <dc:description/>
  <dc:language>en-US</dc:language>
  <cp:lastModifiedBy>school3</cp:lastModifiedBy>
  <dcterms:modified xsi:type="dcterms:W3CDTF">2025-02-25T10:12:01Z</dcterms:modified>
  <cp:revision>34</cp:revision>
  <dc:subject/>
  <dc:title>Презентация PowerPoint</dc:title>
</cp:coreProperties>
</file>