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B40-9E5B-42A4-967A-637A682A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FDE-E761-4A5F-9DA9-02F81E17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273-1263-47AA-9751-AB904F79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2B6-EE42-4EB0-8296-8E479CD6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075-FCFB-4361-97F8-06403A35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6EA-6ACC-4F88-A8E1-0B7F120E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A24-F842-4950-B1FD-50E3076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9DC-2342-43FF-BECC-0D8E3DE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DAC-7D0D-47D2-9EF4-7BD60C4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C55-4686-4030-9848-70ACDA2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FD1-D381-4F01-816F-722F840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C2D-5F99-4D98-86E7-BC6784E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B2C5-2498-4137-B9BA-8D9692BAF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23120"/>
            <a:ext cx="7643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42560" y="1700280"/>
            <a:ext cx="7643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ЦЕНКА КОЛИЧЕСТВЕННЫХ ПАРАМЕТРОВ ТЕКСТОВЫХ ДОКУМЕНТ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одирование текс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42560" y="1052280"/>
            <a:ext cx="810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одировк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определите информационный объем фразы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делай из мухи сло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- 1 символ = 2 бай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этой фразе 23 симв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3 символа* 2 байт = 46 бай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08000" y="1052280"/>
            <a:ext cx="82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одировк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определите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битах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объем фразы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лай добро, и оно к тебе верне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1 символ = 2 бай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этой фразе 35 симво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5 символов* 2 байта = 70 бай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0 байт = 560 б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есты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ord-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ord-7-1, Word-7-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116000" y="10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кст состоит из символов - букв, цифр, знаков препинания и  т.  д.,  которые компьютер различает по их двоичному к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2492280"/>
            <a:ext cx="8101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OI-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дин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юб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имвол кодируется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байт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UNICODE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ин символ кодируется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йт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о содержит 8 символов. Определите его объем в обычной кодиров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ычная кодировка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символ = 1 б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 символов * 1 байт = 8 б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42560" y="1052280"/>
            <a:ext cx="7993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о содержит 24 символа. Определите его объем в обычной кодиров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ычная кодиров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символ = 1 б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4 символа* 1 байт = 24 б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2560" y="1052280"/>
            <a:ext cx="7993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о содержит 9 символов. Определите его объем в кодировке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1 символ = 2 б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 символов * 2 байта = 18 б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42560" y="1052280"/>
            <a:ext cx="810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о содержит 14 символов. Определите его объем в кодировке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символ = 2 б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 символов * 2 байта = 28 б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2560" y="1052280"/>
            <a:ext cx="810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одировке KОI-8 определите информационный объем фразы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рпенье и труд все перетру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читать надо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с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имвол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включая пробелы и знаки препин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42560" y="1052280"/>
            <a:ext cx="810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одировке KОI-8 определите информационный объем фразы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ерпенье и труд все перетру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ычная кодировк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1 символ = 1 бай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этой фразе 29 символ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9 символов* 1 байт = 29 бай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42560" y="1052280"/>
            <a:ext cx="810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одировке KОI-8 определите информационный объем фразы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Берись дружно – не будет груз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ычная кодировк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1 символ = 1 бай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этой фразе 32 симв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2 символа* 1 байт = 32 бай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chool3</cp:lastModifiedBy>
  <dcterms:modified xsi:type="dcterms:W3CDTF">2025-04-12T14:52:23Z</dcterms:modified>
  <cp:revision>22</cp:revision>
  <dc:subject/>
  <dc:title>Презентация PowerPoint</dc:title>
</cp:coreProperties>
</file>